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EC2-5FEB-4192-B678-EF31A14B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F90-70C3-4C24-990E-431D452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DB4-8900-4488-B6DC-0545F4C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2DF-E8C1-4192-A486-139FCE11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CD2-C9A1-4306-95CE-1E6EE158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43D-6F05-4B30-BEB1-01A3450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A12-7EA3-4AF5-B416-F847A96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179-D529-456A-B8B5-5FB3A2D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F2B-74AE-4702-B31F-EAEB93A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AE1-96C6-4246-A2B5-F5B1819D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D05-BF93-4755-9ADE-CE207BDD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624-BC8B-4922-BFD9-73AC6D47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3"/>
          <p:cNvSpPr/>
          <p:nvPr/>
        </p:nvSpPr>
        <p:spPr>
          <a:xfrm>
            <a:off x="685800" y="1285920"/>
            <a:ext cx="8750160" cy="0"/>
          </a:xfrm>
          <a:prstGeom prst="line">
            <a:avLst/>
          </a:prstGeom>
          <a:ln w="28440">
            <a:solidFill>
              <a:srgbClr val="f34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4C03-BA93-4453-911E-B99C703C3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7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793800" y="1444680"/>
            <a:ext cx="7711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Times New Roman"/>
              </a:rPr>
              <a:t>О результатах анализа выполнения обязательств, предусмотренных соглашениями, </a:t>
            </a: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MS Mincho"/>
              </a:rPr>
              <a:t>заключенны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MS Mincho"/>
              </a:rPr>
              <a:t>Правительством Новгород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MS Mincho"/>
              </a:rPr>
              <a:t>с </a:t>
            </a: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Calibri"/>
              </a:rPr>
              <a:t>органами местного самоуправления муниципальных районов (городского округа) Новгородской области об осуществлении мер, направленных на социально-экономическое развитие муниципального района (городского округа) Новгородской области и оздоровление муниципальных финансов муниципального района (городского округ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Calibri"/>
              </a:rPr>
              <a:t>Новгород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1590480"/>
            <a:ext cx="79218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Общие сведения об исполнении обязательств, предусмотренные подпунктом 2.1.1 соглашений об осуществлении мер, направленных на социально-экономическое развитие муниципального района (городского округа) и оздоровление муниципальных финансов муниципального района (городского округа) по состоянию на 01.01.2019  по количеству баллов</a:t>
            </a:r>
            <a:endParaRPr b="0" lang="en-US" sz="14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03360" y="2221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en-US" sz="5000" spc="-1" strike="noStrike">
                <a:solidFill>
                  <a:srgbClr val="f34840"/>
                </a:solidFill>
                <a:latin typeface="Arial"/>
                <a:ea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13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8" descr=""/>
          <p:cNvPicPr/>
          <p:nvPr/>
        </p:nvPicPr>
        <p:blipFill>
          <a:blip r:embed="rId2"/>
          <a:stretch/>
        </p:blipFill>
        <p:spPr>
          <a:xfrm>
            <a:off x="603360" y="2846520"/>
            <a:ext cx="813888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03360" y="2221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a6a6a6"/>
                </a:solidFill>
                <a:latin typeface="Arial"/>
                <a:ea typeface="Arial"/>
              </a:rPr>
              <a:t>0</a:t>
            </a:r>
            <a:r>
              <a:rPr b="0" lang="ru-RU" sz="5000" spc="-1" strike="noStrike">
                <a:solidFill>
                  <a:srgbClr val="f34840"/>
                </a:solidFill>
                <a:latin typeface="Arial"/>
                <a:ea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3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360" y="1374480"/>
            <a:ext cx="78422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Сведения об основных невыполненных обязательствах, предусмотренных подпунктом 2.1.1 соглашения об осуществлении мер, направленных на социально-экономическое развитие муниципального района (городского округа) и оздоровление муниципальных финансов муниципального района (городского округа) по состоянию на 01.01.2019</a:t>
            </a:r>
            <a:endParaRPr b="0" lang="en-US" sz="14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4040" y="2475000"/>
            <a:ext cx="3451320" cy="94644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Заключение концессионных соглашений в сфере ЖКХ в соответствии с ФЗ от 21.07.2005 №115-ФЗ «О концессионных соглашениях». – 21 райо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84040" y="5146560"/>
            <a:ext cx="3451320" cy="137268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1. Достижение показателей и выполнение мероприятий целевых моделей упрощения процедур ведения бизнеса и повышения инвестиционной привлекательности субъектов РФ.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000920" y="3579840"/>
            <a:ext cx="1866960" cy="137268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Реализация прогнозного плана приватизации муниципального имущества.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7000920" y="2482920"/>
            <a:ext cx="1866960" cy="94644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 Обеспечение диспансеризации взрослого населения. – 6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004160" y="5157720"/>
            <a:ext cx="1866960" cy="115956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Заключение в 2018 году энергосервисных контрактов.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3897360" y="2473200"/>
            <a:ext cx="2946240" cy="94644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9. Своевременное качественное рассмотрение сообщений граждан на информационном портале «Вечевой колокол». – 2 райо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3897360" y="3579840"/>
            <a:ext cx="2946240" cy="137268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. Достижение финансового эффекта от реализации мероприятий по оптимизации сети и штатной численности муниципальных учреждений.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райо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284040" y="3579840"/>
            <a:ext cx="3451320" cy="94644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8. Снижение просроченной кредиторской задолженности муниципальных учреждений (2018 к 2017 году, на 15 %). – 2 райо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3897360" y="5146560"/>
            <a:ext cx="2946240" cy="1159560"/>
          </a:xfrm>
          <a:prstGeom prst="rect">
            <a:avLst/>
          </a:prstGeom>
          <a:solidFill>
            <a:srgbClr val="fee9e8"/>
          </a:solidFill>
          <a:ln w="64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. Выполнение мероприятий по развитию туристической индустрии (площадка для отдыха, 2 знака туристической навигации).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райо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rcRect l="0" t="12275" r="0" b="0"/>
          <a:stretch/>
        </p:blipFill>
        <p:spPr>
          <a:xfrm>
            <a:off x="0" y="1638360"/>
            <a:ext cx="9144000" cy="5354640"/>
          </a:xfrm>
          <a:prstGeom prst="rect">
            <a:avLst/>
          </a:prstGeom>
          <a:ln w="0">
            <a:noFill/>
          </a:ln>
        </p:spPr>
      </p:pic>
      <p:sp>
        <p:nvSpPr>
          <p:cNvPr id="101" name="Заголовок 1"/>
          <p:cNvSpPr/>
          <p:nvPr/>
        </p:nvSpPr>
        <p:spPr>
          <a:xfrm>
            <a:off x="1355760" y="1925640"/>
            <a:ext cx="2619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Спас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за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3:13:56Z</dcterms:created>
  <dc:creator>Vanechek</dc:creator>
  <dc:description/>
  <dc:language>en-US</dc:language>
  <cp:lastModifiedBy>Admin</cp:lastModifiedBy>
  <cp:lastPrinted>2019-02-21T07:07:14Z</cp:lastPrinted>
  <dcterms:modified xsi:type="dcterms:W3CDTF">2019-02-21T08:03:29Z</dcterms:modified>
  <cp:revision>120</cp:revision>
  <dc:subject/>
  <dc:title>Презентация PowerPoint</dc:title>
</cp:coreProperties>
</file>